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88357"/>
        <c:axId val="8962790"/>
      </c:barChart>
      <c:catAx>
        <c:axId val="47088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2790"/>
        <c:crosses val="autoZero"/>
        <c:auto val="1"/>
        <c:lblAlgn val="ctr"/>
        <c:lblOffset val="100"/>
        <c:noMultiLvlLbl val="0"/>
      </c:catAx>
      <c:valAx>
        <c:axId val="8962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88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1DB-F99B-41FC-B4B9-036E1A1D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472-25C8-4DCD-90BE-31A10D37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2C4-3D2C-46B8-89D5-BDE5C692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EAD-2D07-416F-8BBE-729C47B4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9C1-401B-4502-AF21-9DBC3D11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2A7-DC1E-4B6E-A394-EFF99C2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8F1-8B32-401A-98A8-46CC120C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FAE-CC61-4B31-A75F-0F49DDDD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2B5-4070-4C30-B3FE-8A0ADEB9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E58-5278-4C83-B1E6-F30D9B7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8E3-9B62-4E62-BFDB-C04FE113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562-2313-49E0-8AEC-2FD3E12C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D05DF-82DE-4566-AC54-93331614D7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