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70703"/>
        <c:axId val="21286369"/>
      </c:barChart>
      <c:catAx>
        <c:axId val="91370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86369"/>
        <c:crosses val="autoZero"/>
        <c:auto val="1"/>
        <c:lblAlgn val="ctr"/>
        <c:lblOffset val="100"/>
        <c:noMultiLvlLbl val="0"/>
      </c:catAx>
      <c:valAx>
        <c:axId val="21286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0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FE8-C201-40E7-A0E6-6E566AA7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E52-52F4-43D2-A4EC-59590AFD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3A8-13A6-49E7-98BE-262C0BDA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FCF-4FC8-46AA-892B-044DEDCC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AE8-FAB9-4DB4-BE18-EB049F28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F9D-7364-4AB8-8254-D68D4796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5F9-2A04-4FFE-B758-2D842088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6A9-8092-4C5F-BE54-A99812D7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085-CB0D-43BB-971A-D620928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62F-A201-4243-84D8-9D5E5DB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1D0-E0CE-4233-B55E-619A95C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9EE-EAD0-43A1-AE06-43A95A05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B1633-1B6B-4DBC-ACA2-59884D3B29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